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3a7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b3a7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4488-1780-4219-AE24-06F48A5EE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Figure 10.3 (formerly 8.3 in 9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Figure 10.4 (formerly 8.4 in 9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10.1 (formerly 8.1 in 9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Figure 10.2 (formerly 8.2 in 9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4FFA8-8C89-4709-9853-A0A8F9C93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9CEC6-F2C0-4A49-A13E-8FBF5D229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51225-B602-4A30-B3BE-711143773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7521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17521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40208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40208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5BEFE-0922-4784-838E-B0AD87AC4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3a7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3a7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3a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1830A-52F8-40B6-8C44-570D03CE0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60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60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15160" y="17521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49440" y="17521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15160" y="40208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49440" y="40208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21F0D-BE7F-43E0-977B-CA6CD7D6F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C9C49-4B41-49BB-A091-67C06E568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AB7FA-A294-4D1E-9A35-2F0BA57D2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3a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473A8-A56B-43F5-A0F3-FEF2A6A83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AE884-D07A-4B57-A314-E14ED793F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0B2B8-CC6A-456F-B258-A4C1EDC36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C3C8E-0AFC-43DF-A4F3-BB44C56D6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b3a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b3a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b3a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86200"/>
            <a:ext cx="4572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Houghton Mifflin Compan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5862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| </a:t>
            </a:r>
            <a:fld id="{FE205566-F900-4B8B-A40B-219BC3BCA1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1640" y="129492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3a7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b3a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3a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b3a7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b3a7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b3a7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b3a7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1640" y="1583280"/>
            <a:ext cx="4343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3a71"/>
                </a:solidFill>
                <a:latin typeface="Arial"/>
              </a:rPr>
              <a:t>Chapter Ten</a:t>
            </a:r>
            <a:endParaRPr b="0" lang="en-US" sz="3600" spc="-1" strike="noStrike">
              <a:solidFill>
                <a:srgbClr val="2b3a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1640" y="2895120"/>
            <a:ext cx="4343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3a71"/>
                </a:solidFill>
                <a:latin typeface="Arial"/>
              </a:rPr>
              <a:t>Elections and Campaigns</a:t>
            </a:r>
            <a:endParaRPr b="0" lang="en-US" sz="3200" spc="-1" strike="noStrike">
              <a:solidFill>
                <a:srgbClr val="2b3a71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27800"/>
            <a:ext cx="86868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ying in Congres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sework, Pork and Loyal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gear their offices to help individual constitu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tee members secure pork for the distr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must decide to what extent to be delegates ( to do what the district wants) versus trustees ( to use their independent judg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56755-7B2E-4DA0-AA11-2C37619CB5F9}" type="slidenum">
              <a:t>10</a:t>
            </a:fld>
          </a:p>
        </p:txBody>
      </p:sp>
    </p:spTree>
  </p:cSld>
  <p:transition spd="med"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74 Campaign Finance Re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2: Watergate and illegal donations from corporation, unions, and individuals catalyze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about the 1974 federal campaign reform law and Federal Election Commission (F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1ED59-F20E-4EB3-AB8B-00AE438AED3E}" type="slidenum">
              <a:t>11</a:t>
            </a:fld>
          </a:p>
        </p:txBody>
      </p:sp>
    </p:spTree>
  </p:cSld>
  <p:transition spd="med"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ising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can give $2,300 (2002 Reform); PACs can give $5,000 in each election to each cand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s must raise $5,000 in twenty states in individual contributions of $250 or less to qualify for federal matching grants to pay for primary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8827F-83E5-4E95-86FE-355BBDAAF71F}" type="slidenum">
              <a:t>12</a:t>
            </a:fld>
          </a:p>
        </p:txBody>
      </p:sp>
    </p:spTree>
  </p:cSld>
  <p:transition spd="med"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s with Campaign Finan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 expendit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n organization or PAC can spend as much as it wishes on advertising, so long as it is not coordinated with a candidate’s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 mon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unlimited amounts of money may be given to a political party, so long as a candidate is not n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7F239-B616-4E19-A8C3-AC665F078FD6}" type="slidenum">
              <a:t>13</a:t>
            </a:fld>
          </a:p>
        </p:txBody>
      </p:sp>
    </p:spTree>
  </p:cSld>
  <p:transition spd="med"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partisan Campaign Finance Reform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ned soft money contributions to national parties from corporations and unions after the 2002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d the limit on individual donations to $2,300 per candidate per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73AB1-06D8-44F8-91FF-B8619AAA6D3D}" type="slidenum">
              <a:t>14</a:t>
            </a:fld>
          </a:p>
        </p:txBody>
      </p:sp>
    </p:spTree>
  </p:cSld>
  <p:transition spd="med"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partisan Campaign Finance Reform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ply restricted independent expendi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3a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orations, unions, trade associations, nonprofit organizations cannot use their own money for an advertisement referring to a candidate by name 30 days before a primary and 60 days before a general 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96412-76E0-4F08-BB74-E5E51013C9B7}" type="slidenum">
              <a:t>15</a:t>
            </a:fld>
          </a:p>
        </p:txBody>
      </p:sp>
    </p:spTree>
  </p:cSld>
  <p:transition spd="med">
    <p:wipe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27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37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w source of money under the Bipartisan Campaign Reform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permit the kind of soft money expenditures once made by political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spend their money on politics so long as they do not coordinate with a candidate or lobby directly for that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B7E0D-AE40-404F-A3D2-7C6D9C808E1A}" type="slidenum">
              <a:t>16</a:t>
            </a:fld>
          </a:p>
        </p:txBody>
      </p:sp>
    </p:spTree>
  </p:cSld>
  <p:transition spd="med">
    <p:wipe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ey and Wi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ial candidates have similar funds because of federal funding (NOT ANYM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peacetime, presidential elections are usually decided on the basis of three f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b3a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party aff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b3a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b3a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FD007-CE99-4B1F-B9BC-0443A727D939}" type="slidenum">
              <a:t>17</a:t>
            </a:fld>
          </a:p>
        </p:txBody>
      </p:sp>
    </p:spTree>
  </p:cSld>
  <p:transition spd="med"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27800"/>
            <a:ext cx="86868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10.3: The Economy and Vote for President, 1948-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487600" y="1447920"/>
            <a:ext cx="4168800" cy="451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1143000" y="601992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from Robert S. Erikson and Kent L. Tedin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merican Public Opinion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th ed., p. 271. Copyright © 1995 by Allyn &amp; Bacon/Longman. Reprinted by permission of Pearson Education, In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FF88-DCF1-4049-B77E-1C1C9277B266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ter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. O. Key: most voters who switch parties do so in their own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pective voting is used by relatively few vo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ospective voting is practiced by most voters, and decides most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BCC01-828C-41CC-95E0-C679F9B21F6D}" type="slidenum">
              <a:t>19</a:t>
            </a:fld>
          </a:p>
        </p:txBody>
      </p:sp>
    </p:spTree>
  </p:cSld>
  <p:transition spd="med"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idential v. Congressional Campa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more voter participation in presidential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ial races are more competitive than House r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BC036-7E1C-4D4C-AB5E-98B2FCBAF667}" type="slidenum">
              <a:t>2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al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tic coalition: African Americans, Jews, Hispanics (not Cub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s(?), southerners(YES!) and union members(?) are leaving the Democr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ublican coalition: business and professional people who are very loyal, fa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BC1F3-4968-45A9-8326-D22F65F5CFFE}" type="slidenum">
              <a:t>20</a:t>
            </a:fld>
          </a:p>
        </p:txBody>
      </p:sp>
    </p:spTree>
  </p:cSld>
  <p:transition spd="med">
    <p:wipe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127800"/>
            <a:ext cx="86868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10.4: Partisan Division of Presidential Vote, 1856-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8534160" cy="424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380880" y="6019920"/>
            <a:ext cx="838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from Historical Data Archive, Inter-University Consortium for Political Research, as reported in William H. Flanigan and Nancy H. Zingale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olitical Behavior of the American Electo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3rd ed., 3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4B07F-D46D-453C-BDEB-116F9A9A06C4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Elections Make a Difference in Polic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American elections do make differences in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constitutional system generally moderates the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598ED-1FE6-4D9A-B2E6-B00773B5D51C}" type="slidenum">
              <a:t>22</a:t>
            </a:fld>
          </a:p>
        </p:txBody>
      </p:sp>
    </p:spTree>
  </p:cSld>
  <p:transition spd="med">
    <p:wipe dir="r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idential v. Congressional Campa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turnout in off years means that candidates must appeal to more motivated and partisan vo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b3a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ss Satisfied Vote, which generally means President’s Party loses s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of Congress can do things for their constituents that the president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of Congress can distance themselves from the “mess in Washingt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185AA-4466-466A-B7FD-88E204051229}" type="slidenum">
              <a:t>3</a:t>
            </a:fld>
          </a:p>
        </p:txBody>
      </p:sp>
    </p:spTree>
  </p:cSld>
  <p:transition spd="med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ding for Congressional El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money comes from individual small donors ($100–$200 a per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,300 maximum for individual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5,000 limit for PACs, but most give just a few hundred dol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rs must supply much of their own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6295C-2896-460A-8063-DF432448C37B}" type="slidenum">
              <a:t>4</a:t>
            </a:fld>
          </a:p>
        </p:txBody>
      </p:sp>
    </p:spTree>
  </p:cSld>
  <p:transition spd="med"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10.1: The Cost of Wi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1909800"/>
            <a:ext cx="8686800" cy="3778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533520" y="579132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from Federal Election Commission report, May 15, 200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476C8-08E5-4332-8D79-FBEB8F730930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10.2: Growth of PA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2001960"/>
            <a:ext cx="8534160" cy="3593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438280" y="571500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 Election Commis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C3E85-0C65-4E61-BA3C-1C974F1AD085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gressional El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umbents have an extraordinary advantage – and no terms limits in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te has two senators; number of House representatives based on state population, as determined by the cen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members are now elected from single-member distr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29B8C-7BE0-49E4-9935-F5A6CE9ABEE1}" type="slidenum">
              <a:t>7</a:t>
            </a:fld>
          </a:p>
        </p:txBody>
      </p:sp>
    </p:spTree>
  </p:cSld>
  <p:transition spd="med"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10.2: Sources of Campaign Funds: All House and Senate Candidates in 2001-2002, by Party (in Mill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666800"/>
            <a:ext cx="8229600" cy="4781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247D4-FB23-4C3C-B4BE-C3F0586C5755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028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 District Bound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lapportio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districts have very different populations, so the votes in the less-populated district “weigh more” than those in the more-populated distr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b3a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rrymand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boundaries are drawn to favor one party rather than another, resulting in odd-shaped distr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E1278-F99F-4736-A04F-8CF0B00DBB58}" type="slidenum">
              <a:t>9</a:t>
            </a:fld>
          </a:p>
        </p:txBody>
      </p:sp>
    </p:spTree>
  </p:cSld>
  <p:transition spd="med">
    <p:wipe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5:40:29Z</dcterms:created>
  <dc:creator>Creek Tech Center</dc:creator>
  <dc:description/>
  <dc:language>en-US</dc:language>
  <cp:lastModifiedBy>Darien Public Schools</cp:lastModifiedBy>
  <dcterms:modified xsi:type="dcterms:W3CDTF">2008-03-05T14:38:13Z</dcterms:modified>
  <cp:revision>15</cp:revision>
  <dc:subject/>
  <dc:title>Elections and Campaigns</dc:title>
</cp:coreProperties>
</file>